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E8FC4-4352-4502-8B3C-82CC44306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C4708-6A7D-4561-9D2E-9562B6EB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3C19A-B7EE-495D-952A-FD7B9A194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6C721-047C-4725-9230-94B2149BF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93A3-75A0-4765-BE41-7BDCCFC50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2951-6809-423B-9623-77459917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626B-DAEE-4357-AF88-2F83196B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ED90-BD2A-44A3-9DA3-7C1FBCFA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43D6-BCEE-4B6D-90B1-E26A026F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7AF4-C084-4457-9934-4916C92E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52C2-1C18-45FC-BF77-CFA5D32D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AB600-3A43-4DB3-A234-9C5E7067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8061-04FA-44A7-A904-F672A0BC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A654-61AD-4EDC-B760-2B40D698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B22E-6907-418D-B1DF-1BA7A5E0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856B-97EB-4F28-B3A6-4A7022D66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8202-FEDB-4190-A691-99D63096A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8E86B-446D-4B8B-9433-E2FB6157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9B096-038C-4CFD-B6B2-F198F890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18E40-FB11-4328-8FED-3D32173F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67FAF-7822-4FD9-ACB2-A4626257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515E3-550D-4C61-A892-1B2A8ECD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9F915-41F1-40DC-81D1-79046A91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39B64-DAF4-4A71-B118-C3664C43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BFBC-0851-4123-B5D5-0EC00A7B4D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191D-4928-46BE-B6BB-F4365494CB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ift Cipher Analysis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the Shift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hift cipher is easy to break by a brute force attac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all 25 possible shifts on the cipher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em will produce plaintex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 will do this for you (see th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AF630-52F2-460C-9CF1-1B5F6BA387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try all 25 shifts and report th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0" y="624852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1143000" y="2195640"/>
            <a:ext cx="5325840" cy="4662360"/>
            <a:chOff x="1143000" y="2195640"/>
            <a:chExt cx="5325840" cy="4662360"/>
          </a:xfrm>
        </p:grpSpPr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1143000" y="2195640"/>
              <a:ext cx="5325840" cy="46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2268360" y="2919240"/>
              <a:ext cx="1114560" cy="1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902680" y="3720960"/>
            <a:ext cx="1501920" cy="865440"/>
            <a:chOff x="2902680" y="3720960"/>
            <a:chExt cx="1501920" cy="865440"/>
          </a:xfrm>
        </p:grpSpPr>
        <p:sp>
          <p:nvSpPr>
            <p:cNvPr id="122" name=""/>
            <p:cNvSpPr/>
            <p:nvPr/>
          </p:nvSpPr>
          <p:spPr>
            <a:xfrm>
              <a:off x="2944800" y="3747960"/>
              <a:ext cx="1380960" cy="838440"/>
            </a:xfrm>
            <a:prstGeom prst="wedgeRoundRectCallout">
              <a:avLst>
                <a:gd name="adj1" fmla="val -43791"/>
                <a:gd name="adj2" fmla="val 64393"/>
                <a:gd name="adj3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02680" y="3720960"/>
              <a:ext cx="1501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nter th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ipher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906560" y="2157480"/>
            <a:ext cx="1381320" cy="838080"/>
            <a:chOff x="1906560" y="2157480"/>
            <a:chExt cx="1381320" cy="838080"/>
          </a:xfrm>
        </p:grpSpPr>
        <p:sp>
          <p:nvSpPr>
            <p:cNvPr id="125" name=""/>
            <p:cNvSpPr/>
            <p:nvPr/>
          </p:nvSpPr>
          <p:spPr>
            <a:xfrm>
              <a:off x="1906560" y="2157480"/>
              <a:ext cx="1381320" cy="838080"/>
            </a:xfrm>
            <a:prstGeom prst="wedgeRoundRectCallout">
              <a:avLst>
                <a:gd name="adj1" fmla="val -43791"/>
                <a:gd name="adj2" fmla="val 64393"/>
                <a:gd name="adj3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26440" y="2158920"/>
              <a:ext cx="102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105520" y="2700360"/>
            <a:ext cx="3754440" cy="323388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5230800" y="1995480"/>
            <a:ext cx="1380960" cy="838080"/>
            <a:chOff x="5230800" y="1995480"/>
            <a:chExt cx="1380960" cy="838080"/>
          </a:xfrm>
        </p:grpSpPr>
        <p:sp>
          <p:nvSpPr>
            <p:cNvPr id="129" name=""/>
            <p:cNvSpPr/>
            <p:nvPr/>
          </p:nvSpPr>
          <p:spPr>
            <a:xfrm>
              <a:off x="5230800" y="1995480"/>
              <a:ext cx="1380960" cy="838080"/>
            </a:xfrm>
            <a:prstGeom prst="wedgeRoundRectCallout">
              <a:avLst>
                <a:gd name="adj1" fmla="val -43791"/>
                <a:gd name="adj2" fmla="val 64393"/>
                <a:gd name="adj3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50680" y="1996920"/>
              <a:ext cx="102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5383080" y="4576680"/>
            <a:ext cx="2657520" cy="5050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43560" y="3408480"/>
            <a:ext cx="304812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54320" y="4659480"/>
            <a:ext cx="9144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BD903-5184-4398-8A09-96B3ADB76E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xit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04T01:24:25Z</dcterms:modified>
  <cp:revision>35</cp:revision>
  <dc:subject/>
  <dc:title>CAP Cryptographic Analysis Program</dc:title>
</cp:coreProperties>
</file>